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DF65-A45E-4FE1-818D-8EA494CAF35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and Structur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live in a new class of astronomical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 responds to net force by moving on circular path aroun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ot of V versus R is called a rotation cur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served Cas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ificance of the Rotation Curve for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indicated by the rotation curve exceeds that in 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dark matter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: A Major Problem for Contemporary Physics and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 are a small fraction of the mass of major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rk matter problem becomes more pronounced as you go out in the univ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m of the dark matter is unknown; probably not what you studied in chemi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ibly/probably an unknown form of elementary parti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Very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see at the galactic center (radio and infrared wavelengt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radio source (synchrotron radi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infrared wavelengths, can see stars orbiting very vast around Sgr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antwrp.gsfc.nasa.gov/apod/ap00122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 years of observations speeded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 of Star 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… an advertisement for 29:52 “Exploration of the Solar Syst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lf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servations indicate the shape and size of the Milky Way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Milky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l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actic ha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 what simple 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consistent with a part of this pictur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iew of the Milky Way with an artist’s to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topic: the motion of the Sun in the Milky Way (leads to something extremely interest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Sun move in the Milky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moves in response to the gravitational force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rest of the mas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the mass distribu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uld we te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 acts on the Sun and all objects in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653E-4733-4FD9-8C26-FF86EB11F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6D14-1C5B-4B79-AB31-79803BDA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A811-3ECD-4057-BCA0-5999AFD81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8E74-82CB-4DDC-AE4F-831B6420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F09C-4D4C-41B4-9379-DA86598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6AF-8A7A-4DD1-9D61-614F08F1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BCC-4971-4EF5-9BA7-7EE622B7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FAA-F0BE-49C0-89D6-7A02247D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DD66-0858-4AA2-9C47-0D6B1BD2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1A9E-161B-4EE6-99E6-413674AB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4DB8-04D3-42E8-A656-22B7453D0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160-D94E-48AC-AAF2-5D5657C1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B02E-1241-4E0B-94CA-77B74FD6BA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01220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The Size and Structure of the Milky Way Galax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2_28"/>
          <p:cNvPicPr/>
          <p:nvPr/>
        </p:nvPicPr>
        <p:blipFill>
          <a:blip r:embed="rId1"/>
          <a:stretch/>
        </p:blipFill>
        <p:spPr>
          <a:xfrm>
            <a:off x="2819520" y="1523880"/>
            <a:ext cx="3450960" cy="4767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6553080" y="228600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We live in a new class of astronomical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5409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n responds to net force by moving on circular path around the 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Forces on Star"/>
          <p:cNvPicPr/>
          <p:nvPr/>
        </p:nvPicPr>
        <p:blipFill>
          <a:blip r:embed="rId1"/>
          <a:stretch/>
        </p:blipFill>
        <p:spPr>
          <a:xfrm>
            <a:off x="1143000" y="298440"/>
            <a:ext cx="6400800" cy="4795920"/>
          </a:xfrm>
          <a:prstGeom prst="rect">
            <a:avLst/>
          </a:prstGeom>
          <a:ln w="0">
            <a:noFill/>
          </a:ln>
        </p:spPr>
      </p:pic>
      <p:sp>
        <p:nvSpPr>
          <p:cNvPr id="94" name="Oval 4"/>
          <p:cNvSpPr/>
          <p:nvPr/>
        </p:nvSpPr>
        <p:spPr>
          <a:xfrm>
            <a:off x="2209680" y="3505320"/>
            <a:ext cx="38124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>
            <a:off x="5943600" y="2057400"/>
            <a:ext cx="38088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s distributions like 1,2, and 3 give circular orbits with V(R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22_29"/>
          <p:cNvPicPr/>
          <p:nvPr/>
        </p:nvPicPr>
        <p:blipFill>
          <a:blip r:embed="rId1"/>
          <a:stretch/>
        </p:blipFill>
        <p:spPr>
          <a:xfrm>
            <a:off x="304920" y="2394000"/>
            <a:ext cx="8458200" cy="2492280"/>
          </a:xfrm>
          <a:prstGeom prst="rect">
            <a:avLst/>
          </a:prstGeom>
          <a:ln w="0">
            <a:noFill/>
          </a:ln>
        </p:spPr>
      </p:pic>
      <p:sp>
        <p:nvSpPr>
          <p:cNvPr id="99" name="Line 4"/>
          <p:cNvSpPr/>
          <p:nvPr/>
        </p:nvSpPr>
        <p:spPr>
          <a:xfrm>
            <a:off x="2819520" y="4952880"/>
            <a:ext cx="152388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7086600" y="5029200"/>
            <a:ext cx="1676520" cy="0"/>
          </a:xfrm>
          <a:prstGeom prst="line">
            <a:avLst/>
          </a:prstGeom>
          <a:ln w="255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1296360" y="5486400"/>
            <a:ext cx="643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 plot of V versus R is called a </a:t>
            </a:r>
            <a:r>
              <a:rPr b="1" lang="en-US" sz="2400" spc="-1" strike="noStrike">
                <a:solidFill>
                  <a:srgbClr val="0d5807"/>
                </a:solidFill>
                <a:latin typeface="Arial"/>
              </a:rPr>
              <a:t>rotation cu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bserved Cas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219320" y="6019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gn of the “root-R falloff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2_30"/>
          <p:cNvPicPr/>
          <p:nvPr/>
        </p:nvPicPr>
        <p:blipFill>
          <a:blip r:embed="rId1"/>
          <a:stretch/>
        </p:blipFill>
        <p:spPr>
          <a:xfrm>
            <a:off x="1752480" y="1752480"/>
            <a:ext cx="5572080" cy="42674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Significance of the Rotation Curve for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tation curve stays high outside the bulk of the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s indicated by the rotation cur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cee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in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of the mass of the Milky Way is in an unknown form of “Dark Matte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View of the Milky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"/>
          <p:cNvSpPr/>
          <p:nvPr/>
        </p:nvSpPr>
        <p:spPr>
          <a:xfrm>
            <a:off x="3733920" y="3809880"/>
            <a:ext cx="1066680" cy="0"/>
          </a:xfrm>
          <a:prstGeom prst="line">
            <a:avLst/>
          </a:prstGeom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4"/>
          <p:cNvSpPr/>
          <p:nvPr/>
        </p:nvSpPr>
        <p:spPr>
          <a:xfrm>
            <a:off x="4191120" y="37339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5"/>
          <p:cNvSpPr/>
          <p:nvPr/>
        </p:nvSpPr>
        <p:spPr>
          <a:xfrm>
            <a:off x="1676520" y="2286000"/>
            <a:ext cx="5181480" cy="3200400"/>
          </a:xfrm>
          <a:prstGeom prst="ellipse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304920" y="57913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rk matter h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7"/>
          <p:cNvSpPr/>
          <p:nvPr/>
        </p:nvSpPr>
        <p:spPr>
          <a:xfrm flipV="1">
            <a:off x="1752480" y="4571640"/>
            <a:ext cx="12956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Dark Matter: A Major Problem for Contemporary Physics and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Stars are a small fraction of the mass of major galax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dark matter problem becomes more pronounced as you go out in the unive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he form of the dark matter is unknown; probably not what you studied in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Possibly/probably an unknown form of elementary parti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t the Very Cen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gcradioarc_vla"/>
          <p:cNvPicPr/>
          <p:nvPr/>
        </p:nvPicPr>
        <p:blipFill>
          <a:blip r:embed="rId1"/>
          <a:stretch/>
        </p:blipFill>
        <p:spPr>
          <a:xfrm>
            <a:off x="1066680" y="990720"/>
            <a:ext cx="7143840" cy="56800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What do we see at the galactic center (radio and infrared waveleng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trong radio source (synchrotron radi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 infrared wavelengths, can see stars orbiting very vast around Sgr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antwrp.gsfc.nasa.gov/apod/ap001220.html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Ten years of observations speeded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Orbit of Star S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S2-GC"/>
          <p:cNvPicPr/>
          <p:nvPr/>
        </p:nvPicPr>
        <p:blipFill>
          <a:blip r:embed="rId1"/>
          <a:stretch/>
        </p:blipFill>
        <p:spPr>
          <a:xfrm>
            <a:off x="1600200" y="1447920"/>
            <a:ext cx="5791320" cy="47671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 S2 passes about as close to Sagittarius A* as the planet Pluto passes to the Sun.  Indicates supermassive object in a very small reg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1752480" y="48006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d0964"/>
                </a:solidFill>
                <a:latin typeface="Arial"/>
              </a:rPr>
              <a:t>First… an advertisement for 29:52 “Exploration of the Solar System”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219320" y="5790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The other half of astr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saturn"/>
          <p:cNvPicPr/>
          <p:nvPr/>
        </p:nvPicPr>
        <p:blipFill>
          <a:blip r:embed="rId1"/>
          <a:stretch/>
        </p:blipFill>
        <p:spPr>
          <a:xfrm>
            <a:off x="609480" y="1600200"/>
            <a:ext cx="4930920" cy="367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titan"/>
          <p:cNvPicPr/>
          <p:nvPr/>
        </p:nvPicPr>
        <p:blipFill>
          <a:blip r:embed="rId2"/>
          <a:stretch/>
        </p:blipFill>
        <p:spPr>
          <a:xfrm>
            <a:off x="6153120" y="1523880"/>
            <a:ext cx="2322720" cy="41148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Observations indicate the shape and size of the Milky Way Galax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22_28"/>
          <p:cNvPicPr/>
          <p:nvPr/>
        </p:nvPicPr>
        <p:blipFill>
          <a:blip r:embed="rId1"/>
          <a:stretch/>
        </p:blipFill>
        <p:spPr>
          <a:xfrm>
            <a:off x="4371840" y="457200"/>
            <a:ext cx="44132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110645"/>
                </a:solidFill>
                <a:latin typeface="Arial"/>
              </a:rPr>
              <a:t>Structure of the Milky Way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Bul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4020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020b"/>
                </a:solidFill>
                <a:latin typeface="Arial"/>
              </a:rPr>
              <a:t>Galactic ha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2_28"/>
          <p:cNvPicPr/>
          <p:nvPr/>
        </p:nvPicPr>
        <p:blipFill>
          <a:blip r:embed="rId1"/>
          <a:stretch/>
        </p:blipFill>
        <p:spPr>
          <a:xfrm>
            <a:off x="5029200" y="1600200"/>
            <a:ext cx="3451320" cy="4767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593640" y="4543560"/>
            <a:ext cx="435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Question: what simple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7d17"/>
                </a:solidFill>
                <a:latin typeface="Arial"/>
              </a:rPr>
              <a:t>Is consistent with a part of this pi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10645"/>
                </a:solidFill>
                <a:latin typeface="Arial"/>
              </a:rPr>
              <a:t>A view of the Milky Way with an artist’s tou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Milky_Way"/>
          <p:cNvPicPr/>
          <p:nvPr/>
        </p:nvPicPr>
        <p:blipFill>
          <a:blip r:embed="rId1"/>
          <a:stretch/>
        </p:blipFill>
        <p:spPr>
          <a:xfrm>
            <a:off x="1752480" y="9907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Next topic: the motion of the Sun in the Milky Way (leads to something 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extremely </a:t>
            </a:r>
            <a:r>
              <a:rPr b="0" lang="en-US" sz="3200" spc="-1" strike="noStrike">
                <a:solidFill>
                  <a:srgbClr val="0d0964"/>
                </a:solidFill>
                <a:latin typeface="Arial"/>
              </a:rPr>
              <a:t>interesting</a:t>
            </a:r>
            <a:r>
              <a:rPr b="0" i="1" lang="en-US" sz="3200" spc="-1" strike="noStrike">
                <a:solidFill>
                  <a:srgbClr val="0d0964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2193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30309"/>
                </a:solidFill>
                <a:latin typeface="Arial"/>
              </a:rPr>
              <a:t>How does the Sun move in the Milky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4419720" y="3048120"/>
            <a:ext cx="30456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2438280" y="28195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514600" y="2895480"/>
            <a:ext cx="2057400" cy="3049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14600" y="1295280"/>
            <a:ext cx="4419720" cy="4038840"/>
          </a:xfrm>
          <a:prstGeom prst="ellipse">
            <a:avLst/>
          </a:prstGeom>
          <a:noFill/>
          <a:ln w="316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8"/>
          <p:cNvSpPr/>
          <p:nvPr/>
        </p:nvSpPr>
        <p:spPr>
          <a:xfrm rot="17811600">
            <a:off x="2115360" y="2075400"/>
            <a:ext cx="687240" cy="345960"/>
          </a:xfrm>
          <a:prstGeom prst="rightArrow">
            <a:avLst>
              <a:gd name="adj1" fmla="val 50000"/>
              <a:gd name="adj2" fmla="val 4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6249960" y="1905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=220 km/s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671040" y="5610240"/>
            <a:ext cx="768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The sun moves in response to the gravitational force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5807"/>
                </a:solidFill>
                <a:latin typeface="Arial"/>
              </a:rPr>
              <a:t>All the rest of the mass in the gala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How is the mass distribu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6324120"/>
            <a:ext cx="64008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could we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Distribution Galactic Mass"/>
          <p:cNvPicPr/>
          <p:nvPr/>
        </p:nvPicPr>
        <p:blipFill>
          <a:blip r:embed="rId1"/>
          <a:stretch/>
        </p:blipFill>
        <p:spPr>
          <a:xfrm>
            <a:off x="990720" y="895320"/>
            <a:ext cx="7315200" cy="54831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cc"/>
                </a:solidFill>
                <a:latin typeface="Arial"/>
              </a:rPr>
              <a:t>Force of Gravity acts on the Sun and all objects in the Galax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95280" y="609588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ravity has magnitude and dire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orbits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0543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9T03:29:46Z</dcterms:created>
  <dc:creator>Steven/Spangler</dc:creator>
  <dc:description/>
  <dc:language>en-US</dc:language>
  <cp:lastModifiedBy>Legion</cp:lastModifiedBy>
  <dcterms:modified xsi:type="dcterms:W3CDTF">2017-01-26T10:35:16Z</dcterms:modified>
  <cp:revision>10</cp:revision>
  <dc:subject/>
  <dc:title>The Size and Structure of the Milky Way Galaxy</dc:title>
</cp:coreProperties>
</file>